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5ED0-98C4-43CA-B565-70961AB5C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2847-7FDE-41F3-9600-B83223A286AC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9FB1-EEAC-47BA-AD79-6B230C145470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9187-9E07-4B7F-8602-918AC34B9BBD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3F10-3A4E-45F3-9857-9ED95D66B301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1466-335C-4EA9-8404-7DDF1D112B85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D2D3-A20F-4C5D-BDDB-820087186C9C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5B92-0C82-4F2A-9E6E-5F5B49EFCD5C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425B-CA2B-4922-90BD-43EED880284E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D036-5C85-40F5-B4CF-47A21C65AFA9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51F3-89EF-4085-8852-E2823C43841D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A086-AF07-472F-AE02-3F123394D7EC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2440-294E-4CD1-9C79-52560309282E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0E5F-29A3-44D0-A8AE-CAE02A85A03C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3D78-05BA-42F5-A32D-E4C8018425A5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6EC-A382-4920-A539-D3F49214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C3D2-0157-4A78-A453-318129C5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492-2543-499D-9DCA-2813FB4A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948-DD41-4580-A29B-48940597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6CC1-8CAE-4A9C-90BF-C3C8E2EB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F98F-1530-43DF-8930-2ED5ACBE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89A9-53C0-4F9A-95E6-2DC1D707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7B95-4705-4048-A214-928E71DA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4FA7-E3B9-49B7-BDB6-D1C0B486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8F09-FA70-4660-BC16-622FA214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AFAF-528F-4F75-ACF2-B1A79DD4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839-6579-4EAA-94D8-85AD8013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D475-A222-4B6A-B456-BC280A30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316C-3BCF-40B3-943D-51A9E713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6CF3-581E-4F28-B991-033C20D2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75FE-7F79-412A-9FEA-0CF08232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DC62-FAF0-4474-A64C-B9FC3EEE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2D7-B176-4887-B40F-A7F41C2C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3DD-1E67-4C66-9AC2-D9418EC0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F8B-7638-4FBC-B9C3-1BF6EECE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753-82C1-4509-BC89-00386F3D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FD1-1139-4E4E-9C02-671AAF90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AB9-FAFD-4B0D-936C-A520B1EC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04D-20C7-41F8-A799-BD879990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56A7-8C69-4F9E-AE65-4C2DEA7DBFCA}" type="slidenum">
              <a:rPr b="0" lang="en-US" sz="10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6964-D503-47E0-85BE-8EACE046D69F}" type="slidenum">
              <a:rPr b="0" lang="en-US" sz="1000" spc="-1" strike="noStrike">
                <a:solidFill>
                  <a:srgbClr val="fcf48c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700"/>
                </a:solidFill>
                <a:latin typeface="Arial Black"/>
              </a:rPr>
              <a:t>End of WW2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O.P.E.C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O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rganization of </a:t>
            </a: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P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etroleum </a:t>
            </a: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E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xporting </a:t>
            </a: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C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ountries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ontains 13 countrie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ontrols 2/3 of world’s oil reserve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113" name="Picture 2" descr="http://www.opec.org/home/PowerPoint/Reserves/images/Slide6.gif"/>
          <p:cNvPicPr/>
          <p:nvPr/>
        </p:nvPicPr>
        <p:blipFill>
          <a:blip r:embed="rId1"/>
          <a:stretch/>
        </p:blipFill>
        <p:spPr>
          <a:xfrm>
            <a:off x="2209680" y="314316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116" name="Picture 5" descr="Oil%20Production%20-%202007"/>
          <p:cNvPicPr/>
          <p:nvPr/>
        </p:nvPicPr>
        <p:blipFill>
          <a:blip r:embed="rId1"/>
          <a:stretch/>
        </p:blipFill>
        <p:spPr>
          <a:xfrm>
            <a:off x="914400" y="0"/>
            <a:ext cx="6934320" cy="672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119" name="Picture 5" descr="oil_producers_consumers"/>
          <p:cNvPicPr/>
          <p:nvPr/>
        </p:nvPicPr>
        <p:blipFill>
          <a:blip r:embed="rId1"/>
          <a:stretch/>
        </p:blipFill>
        <p:spPr>
          <a:xfrm>
            <a:off x="457200" y="0"/>
            <a:ext cx="676764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800px-Opec_Organization_of_the_Petroleum_Exporting_Countries_countries"/>
          <p:cNvPicPr/>
          <p:nvPr/>
        </p:nvPicPr>
        <p:blipFill>
          <a:blip r:embed="rId1"/>
          <a:stretch/>
        </p:blipFill>
        <p:spPr>
          <a:xfrm>
            <a:off x="0" y="232092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Iraq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Iran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Kuwait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Venezuela</a:t>
            </a:r>
            <a:br>
              <a:rPr sz="2000"/>
            </a:b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Indonesia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Libya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Saudi Arabia</a:t>
            </a:r>
            <a:br>
              <a:rPr sz="2000"/>
            </a:b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United Arab Emerates </a:t>
            </a:r>
            <a:endParaRPr b="0" lang="en-US" sz="2000" spc="-1" strike="noStrike">
              <a:solidFill>
                <a:srgbClr val="8a87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Purpose and Action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ts amount and price of oil collectively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In 1973 O.P.E.C refused to sell oil to all countries that supported Isra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Oil prices quadruped and created mass shortages for America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700"/>
                </a:solidFill>
                <a:latin typeface="Arial Black"/>
              </a:rPr>
              <a:t>Globalization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World Economy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What is the World Economy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All parts of finance in the world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We are interdependent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Trebuchet MS"/>
              </a:rPr>
              <a:t>Resources, processing, marketing link the world together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Nations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Trebuchet MS"/>
              </a:rPr>
              <a:t>Developed: advanced production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Trebuchet MS"/>
              </a:rPr>
              <a:t>Emerging: in the process of developing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cf48c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Jobs go from developed to emerging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European Union (EU)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Trebuchet MS"/>
              </a:rPr>
              <a:t>Peace through trade union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Trebuchet MS"/>
              </a:rPr>
              <a:t>Strengthens currency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Trebuchet MS"/>
              </a:rPr>
              <a:t>Prevents exploitation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Pro &amp; Cons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560" y="838080"/>
            <a:ext cx="3771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Pros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71920" y="838080"/>
            <a:ext cx="3771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Cons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700"/>
                </a:solidFill>
                <a:latin typeface="Arial Black"/>
              </a:rPr>
              <a:t>Islamic Fundamentalist 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How are they differen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Believes that the government should be modeled after Religion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raditionalist (majority) believe Religion should be practiced by individual not government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http://rds.yahoo.com/_ylt=A9iby6L0imNGdBEBbkyjzbkF/SIG=12904jru3/EXP=1181015156/**http%3A/207.150.180.135/images/en/0/03/NatoAndPact.png"/>
          <p:cNvPicPr/>
          <p:nvPr/>
        </p:nvPicPr>
        <p:blipFill>
          <a:blip r:embed="rId1"/>
          <a:stretch/>
        </p:blipFill>
        <p:spPr>
          <a:xfrm>
            <a:off x="1752480" y="2743200"/>
            <a:ext cx="586764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2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Impact of the Cold War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Polarized War: America v. USSR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Both create alliances NATO v. Warsaw Pact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ontainment: stop the spread of communism throughout the world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Domino Theory: Once one nation falls to communism, they all will!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ontainment in action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Marshall Plan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Korea, Vietnam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94" name="Picture 2" descr="http://rds.yahoo.com/_ylt=A9iby4TTimNGB3MA30WjzbkF/SIG=12m6nrukc/EXP=1181015123/**http%3A/images.salon.com/news/feature/2001/04/03/cold_war/story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486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rds.yahoo.com/_ylt=A9iby4CCi2NGCgQAkECjzbkF/SIG=12k2s727n/EXP=1181015298/**http%3A/www.pacamera.com/memberGalleries/shpall/domino_theory.jpg"/>
          <p:cNvPicPr/>
          <p:nvPr/>
        </p:nvPicPr>
        <p:blipFill>
          <a:blip r:embed="rId3"/>
          <a:stretch/>
        </p:blipFill>
        <p:spPr>
          <a:xfrm>
            <a:off x="0" y="0"/>
            <a:ext cx="7086600" cy="320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onflic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undamentalist see western involvement in government a threat to their movemen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annot make change through democracy because they are minority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Left to try and overtake government power by force (Iran)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War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Leaders call for all out war against all who stand in their way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estern countries seen as enemy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Example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Israel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911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London bombing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Draw Map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Map must include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 continent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 Ocean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here the Renaissance began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here Industrialization Began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A country that was Imperialized by England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One county in O.P.E.C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ountry of Isra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A country that is still Communist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700"/>
                </a:solidFill>
                <a:latin typeface="Arial Black"/>
              </a:rPr>
              <a:t>African Issues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Genocide, Aids &amp; Apartheid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Africa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Apartheid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South Africa attempts to divide society into separate races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This is challenged and defeated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Genocide: killing masses that share a common characteristic (ethnic, religious)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Rwanda is divided between Hutus &amp; Tutsis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Darfur crisis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Other Issues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AIDS epidemic in Africa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Poverty and national debt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Drug &amp; Weapon smuggling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Polarization of the World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ountries compete over advancements and power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hat is one example of this competition?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Arms Race, Space Race 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U.S. Containmen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U.S. does not what to fight Russia but does not want communism to spread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hina turns Communis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War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ghting breaks out in Korea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en followed by war in Vietnam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1989 Berlin Wall falls and signifies the end of the Cold War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Eastern Europe left devastated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ountries start to rebuild 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hat three countries still have communist government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104" name="Picture 5" descr="middleeast"/>
          <p:cNvPicPr/>
          <p:nvPr/>
        </p:nvPicPr>
        <p:blipFill>
          <a:blip r:embed="rId1"/>
          <a:stretch/>
        </p:blipFill>
        <p:spPr>
          <a:xfrm>
            <a:off x="304920" y="0"/>
            <a:ext cx="8229600" cy="6886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A or D?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Is it O.K. for a company/country to deliberately reduce supply in order to increase price?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What if the product is a necessity 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Is it O.k. to fight a country for land/ resource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ere are no negatives to alliances/pacts between countries 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700"/>
                </a:solidFill>
                <a:latin typeface="Arial Black"/>
              </a:rPr>
              <a:t>O.P.E.C.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O.P.E.C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You [Western nations] increased the price of wheat you sell us by 300%, and the same for sugar and cement...; You buy our crude oil and sell it back to us, redefined as petrochemicals, at a hundred times the price you've paid to us...; It's only fair that, from now on, you should pay more for oil. Let's say 10 times more. "[2]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3:55:15Z</dcterms:created>
  <dc:creator>Will</dc:creator>
  <dc:description/>
  <dc:language>en-US</dc:language>
  <cp:lastModifiedBy>Kuenzi</cp:lastModifiedBy>
  <dcterms:modified xsi:type="dcterms:W3CDTF">2012-05-21T17:44:05Z</dcterms:modified>
  <cp:revision>21</cp:revision>
  <dc:subject/>
  <dc:title>Israel Palestinian Crisis </dc:title>
</cp:coreProperties>
</file>